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2.jpeg" ContentType="image/jpeg"/>
  <Override PartName="/ppt/media/image6.png" ContentType="image/png"/>
  <Override PartName="/ppt/media/image14.wmf" ContentType="image/x-wmf"/>
  <Override PartName="/ppt/media/image13.jpeg" ContentType="image/jpeg"/>
  <Override PartName="/ppt/media/image4.png" ContentType="image/png"/>
  <Override PartName="/ppt/media/image27.wmf" ContentType="image/x-wmf"/>
  <Override PartName="/ppt/media/image21.jpeg" ContentType="image/jpeg"/>
  <Override PartName="/ppt/media/image25.wmf" ContentType="image/x-wmf"/>
  <Override PartName="/ppt/media/image15.wmf" ContentType="image/x-wmf"/>
  <Override PartName="/ppt/media/image22.jpeg" ContentType="image/jpeg"/>
  <Override PartName="/ppt/media/image24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23DA-2ACD-4169-BDC3-A08E27ED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947A-2D75-4CF9-BFA8-E2C444492BC9}" type="slidenum"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Wilkerson at The United States Military Academy West Point Researcher at The Army Research 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 part time at Towson University and Harford Community Colle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Chris Arney at The United States Military Academy Wes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 has problems in Differential Equations and other such applications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lays the foundation for understanding these phenomenon visua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examples will allow the instructor to visually experiment with the initial conditions giving the students a dynamic real time view of the affects of initial conditions on the under dampened ca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logical step would be to include more controls and more terms in the solu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our demonstration here we use Mathematica although other programs would als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examples will allow the instructor to visually experiment with the initial conditions giving the students a dynamic real time view of the affects of initial conditions on the under dampened ca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logical step would be to include more controls and more terms in the solu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our demonstration here we use Mathematica although other programs would als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How does the thing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rning and using Mathemat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 can now provide a visual Lab in the class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ynamics provides new dimen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n be used in the classroom or left for stu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esented a simple PID controller for 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pring Mass Sys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ntrol of a Spring Mass Sys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rings back the experimental attributes of learning visu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Ques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36E0-FE7C-415D-878D-E66C4D549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F89A-9A57-487B-BB4D-59270653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 little about Learning Mathematic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people learn (Everyone is different). Felder with Silverman [2] most professors identified themselves as inductive learners while conceding that their teaching was more dedu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fe [8] states that we can no longer afford to assume that all students will learn independent of teaching techniq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dvocated here is a visual compo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ing advantage of computer graphics, computer animation, and symbolic math to put back into the classroom experiment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as our example  a spring mass dampener der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B162-29AA-4504-BEE6-B8F22C370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cientific Knowledge through demonstration is impossible unless a man knows the primary immediate premi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need to be some form of common groun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ust have some common framework to push ideas forwa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not advocating the abandonment of traditional methods, rather an enhancement that utilizes current technology to include real time dynamics and symbolic m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1EE5-D00B-4509-ACC4-42E03AA77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Newton under the Apple tree there needs to be some sense of discovery!  That Ah Ha or WOW moment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thought out arguments and proofs presented in class do not teach students the messy nature of problem solv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unusual for me to work on a problem for a while to get it into a format that I will use to presen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or a flow to the problem and a logical path to solution.  That’s what I presen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experimentation no discovery no how does this work.  If I’m lucky a student will ask a thought provok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needs to be some form of discovery as a part of the overall process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ing the students practice what they have learned is only partially successful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to learning is doing.  One must do to understa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 there is a critical point in the process of disco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point occurs when the student is stuck.  The idea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ation to get past this point is critical in mas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materials.  At the heart of this presentation is u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namic visual aids to propel one past the point of fru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examples will allow the instructor to visually experiment with the initial conditions giving the students a dynamic real time view of the affects of initial conditions on the under dampened ca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logical step would be to include more controls and more terms in the solu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our demonstration here we use Mathematica although other programs would als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examples will allow the instructor to visually experiment with the initial conditions giving the students a dynamic real time view of the affects of initial conditions on the under dampened ca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logical step would be to include more controls and more terms in the solu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our demonstration here we use Mathematica although other programs would als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examples will allow the instructor to visually experiment with the initial conditions giving the students a dynamic real time view of the affects of initial conditions on the under dampened ca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logical step would be to include more controls and more terms in the solu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our demonstration here we use Mathematica although other programs would als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75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2120" y="390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5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44800" y="175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390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44800" y="390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75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90120" y="175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7760" y="175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2120" y="390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90120" y="390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7760" y="390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2120" y="1755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755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55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755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057040" y="-28800"/>
            <a:ext cx="53341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75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755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2120" y="390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755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4800" y="175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4800" y="390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75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0" y="175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90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Header1"/>
          <p:cNvPicPr/>
          <p:nvPr/>
        </p:nvPicPr>
        <p:blipFill>
          <a:blip r:embed="rId2"/>
          <a:stretch/>
        </p:blipFill>
        <p:spPr>
          <a:xfrm>
            <a:off x="0" y="0"/>
            <a:ext cx="9144000" cy="98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2120" y="1755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1253160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2" descr="Fade1"/>
          <p:cNvPicPr/>
          <p:nvPr/>
        </p:nvPicPr>
        <p:blipFill>
          <a:blip r:embed="rId3"/>
          <a:stretch/>
        </p:blipFill>
        <p:spPr>
          <a:xfrm>
            <a:off x="6400800" y="6721560"/>
            <a:ext cx="2743200" cy="13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" name="Picture 34" descr="tagline1"/>
          <p:cNvPicPr/>
          <p:nvPr/>
        </p:nvPicPr>
        <p:blipFill>
          <a:blip r:embed="rId4"/>
          <a:stretch/>
        </p:blipFill>
        <p:spPr>
          <a:xfrm>
            <a:off x="5181480" y="6531120"/>
            <a:ext cx="3733920" cy="128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35" descr="logo_steel_shadow"/>
          <p:cNvPicPr/>
          <p:nvPr/>
        </p:nvPicPr>
        <p:blipFill>
          <a:blip r:embed="rId5"/>
          <a:stretch/>
        </p:blipFill>
        <p:spPr>
          <a:xfrm>
            <a:off x="228600" y="155520"/>
            <a:ext cx="1600200" cy="5526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4"/>
          <p:cNvSpPr/>
          <p:nvPr/>
        </p:nvSpPr>
        <p:spPr>
          <a:xfrm>
            <a:off x="12531600" y="301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36" descr="ARL"/>
          <p:cNvPicPr/>
          <p:nvPr/>
        </p:nvPicPr>
        <p:blipFill>
          <a:blip r:embed="rId6"/>
          <a:stretch/>
        </p:blipFill>
        <p:spPr>
          <a:xfrm>
            <a:off x="7848720" y="152280"/>
            <a:ext cx="914400" cy="544680"/>
          </a:xfrm>
          <a:prstGeom prst="rect">
            <a:avLst/>
          </a:prstGeom>
          <a:ln w="0">
            <a:noFill/>
          </a:ln>
        </p:spPr>
      </p:pic>
      <p:sp>
        <p:nvSpPr>
          <p:cNvPr id="9" name="Text Box 37"/>
          <p:cNvSpPr/>
          <p:nvPr/>
        </p:nvSpPr>
        <p:spPr>
          <a:xfrm>
            <a:off x="4027320" y="64771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File:Aristotle_Altemps_Inv8575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hHeader2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270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agline1"/>
          <p:cNvPicPr/>
          <p:nvPr/>
        </p:nvPicPr>
        <p:blipFill>
          <a:blip r:embed="rId2"/>
          <a:stretch/>
        </p:blipFill>
        <p:spPr>
          <a:xfrm>
            <a:off x="2362320" y="4724280"/>
            <a:ext cx="6248160" cy="21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lineage"/>
          <p:cNvPicPr/>
          <p:nvPr/>
        </p:nvPicPr>
        <p:blipFill>
          <a:blip r:embed="rId3"/>
          <a:stretch/>
        </p:blipFill>
        <p:spPr>
          <a:xfrm>
            <a:off x="380880" y="533520"/>
            <a:ext cx="3505320" cy="118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ARL"/>
          <p:cNvPicPr/>
          <p:nvPr/>
        </p:nvPicPr>
        <p:blipFill>
          <a:blip r:embed="rId4"/>
          <a:stretch/>
        </p:blipFill>
        <p:spPr>
          <a:xfrm>
            <a:off x="6019920" y="2590920"/>
            <a:ext cx="2133360" cy="1298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4255920" y="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Unclass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228600" y="2133720"/>
            <a:ext cx="7772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. Stephen Wilkerson, United States Military Academy (USMA), West Point 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. Chris Arney, United States Military Academy (USMA), West Point 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57200" y="5181480"/>
            <a:ext cx="83059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-25000">
                <a:solidFill>
                  <a:srgbClr val="000000"/>
                </a:solidFill>
                <a:latin typeface="Arial"/>
              </a:rPr>
              <a:t>14 October 20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581280" y="457200"/>
            <a:ext cx="5562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ethod for Dynamic Visualization of Mathemati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Computer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thematica Presentation 5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t Condu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’s Equation for a rectangular Pl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933960" cy="441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5" name="Object 9"/>
              <p:cNvSpPr txBox="1"/>
              <p:nvPr/>
            </p:nvSpPr>
            <p:spPr>
              <a:xfrm>
                <a:off x="5410080" y="3809880"/>
                <a:ext cx="2114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thematica Presentation 6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9144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eat Conduc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’s Equation for a rectangular Pl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772400" cy="4560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5638680" y="2286000"/>
                <a:ext cx="2114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doc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838080"/>
            <a:ext cx="9144000" cy="8120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839440" cy="41148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and using Mathema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now provide a visual Lab in the class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s provides new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be used in the classroom or left for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ented for Partial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ngs experimental into the Class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bines the attributes of learning vis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143000"/>
            <a:ext cx="68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howcard Gothic"/>
              </a:rPr>
              <a:t>How does the thing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tinkering cartoons, tinkering cartoon, tinkering picture, tinkering pictures, tinkering image, tinkering images, tinkering illustration, tinkering illustrations "/>
          <p:cNvPicPr/>
          <p:nvPr/>
        </p:nvPicPr>
        <p:blipFill>
          <a:blip r:embed="rId1"/>
          <a:stretch/>
        </p:blipFill>
        <p:spPr>
          <a:xfrm>
            <a:off x="1600200" y="2133720"/>
            <a:ext cx="61675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 G. Carbonell, R. S. Michalski, T. M. Mitchell, “Machine Learning, An Artificial Intelligence Approach” Tioga Pub. Co. 1983 ISBN 0-934613-09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 M. Felder, L.K Silverman, “Learning and teaching Styles in Engineering Education”, Engineering Education 78(7), 674-681 (198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 Dunn, R. DeBello, P. Brennan, J. Krimsky, P. Murrain, “Learning Style Researchers Define Differences Differently”, Educational Leadership Feb. 1981 pp. 372-3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sh, N., Cristea, A., &amp; De Bra, P., Authoring of Learning Styles in Adaptive Hypermedia: Problems and Solutions, Proceedings of the WWW 2004 Conference, New York, NY, USA, May 2004, pp. 114-123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. M Felder and R. Brent “Understanding Student Differences”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urnal of Engineering Education, 9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, 57-72 (2005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der, F.M. and Soloman, B.A. (1991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dex of Learning Style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Carolina State University.  www.ncsu.edu/effective_teaching/ILSdir/ILS-a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 A. Simon, “Beyond inductive and deductive reasoning: The search for a sense of knowing”, Springler ISSN: 0013-1954 Educational Studies in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W. Keefe, “Diagnosing and prescribing Programs p132, Reston Va, National Association of Secondary School Principals 197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Henry Edwards &amp; David E. Penne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lementary Differential Equ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6th Edition, Prentice Hall; 6 edition (December 8, 2007) ISBN-0-13-065243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Haberman  Applied Differential Equations with Fourier Series and Boundary Value Problems, Fourth Edition , Pearson Education Inc. (2004), ISBN-10: 05343738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Brannan William Boyce, Differential Equations with Boundary Value Problems An introduction to Modern Methods and Applications, Wiley 2110 ISBN 13 978-0-470-4185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ackup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99072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2374920" cy="1523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2362320" cy="1492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3657600" y="1600200"/>
            <a:ext cx="2666880" cy="1528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4"/>
          <a:stretch/>
        </p:blipFill>
        <p:spPr>
          <a:xfrm>
            <a:off x="3581280" y="4572000"/>
            <a:ext cx="2660760" cy="1523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5"/>
          <a:stretch/>
        </p:blipFill>
        <p:spPr>
          <a:xfrm>
            <a:off x="6324480" y="2971800"/>
            <a:ext cx="2478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Eye.jpg blue eyes image by Frog601368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83808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verview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nd using Mathema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people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Visual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Dynamic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with Partial Differenti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quation 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quation and Laplace’s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ther misc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leonardo_da_vinci_man_in_circle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ductive Learn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ientific Knowledge through demonstration is impossible unless a man knows the primary immediate premises … We must get to know the primary premises by induction; for the method by which even sense-perception implants the universal is inductive...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istotle. Analytics Book II Chapter 19 (circa 330 B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200px-Aristotle_Altemps_Inv85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34320" y="990720"/>
            <a:ext cx="19047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Isaac_Newton"/>
          <p:cNvPicPr/>
          <p:nvPr/>
        </p:nvPicPr>
        <p:blipFill>
          <a:blip r:embed="rId1">
            <a:lum bright="50000"/>
          </a:blip>
          <a:stretch/>
        </p:blipFill>
        <p:spPr>
          <a:xfrm>
            <a:off x="0" y="990720"/>
            <a:ext cx="9144000" cy="5717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duction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der and Soloman point out that most professors identified themselves as inductive learners while conceding that their teaching was more dedu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606320" y="4800240"/>
            <a:ext cx="667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tion that is neither inductive or deductive in natur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it is a sense of “how does this thing work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leads to an understanding of the 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hero_teaching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0" y="9907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“Tinkering” Facto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ear and I forget, I see and I remember but when I do I understa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377000" y="3962520"/>
            <a:ext cx="6421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to learning is doing.  One must do to underst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re is a critical point in the process of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point occurs when the student is stuck.  The idea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mentation to get past this point is critical in mas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terials.  At the heart of this presentation is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visual aids to propel one past the point of frust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at conduction in a ro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Differentia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790640" y="1569960"/>
                <a:ext cx="19814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304920" y="4397400"/>
                <a:ext cx="1198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10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9"/>
              <p:cNvSpPr txBox="1"/>
              <p:nvPr/>
            </p:nvSpPr>
            <p:spPr>
              <a:xfrm>
                <a:off x="304920" y="3137040"/>
                <a:ext cx="952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1"/>
              <p:cNvSpPr txBox="1"/>
              <p:nvPr/>
            </p:nvSpPr>
            <p:spPr>
              <a:xfrm>
                <a:off x="2038320" y="3111480"/>
                <a:ext cx="41760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Text Box 13"/>
          <p:cNvSpPr/>
          <p:nvPr/>
        </p:nvSpPr>
        <p:spPr>
          <a:xfrm>
            <a:off x="316440" y="220968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&gt; 0  and 0 &lt; x &lt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7"/>
              <p:cNvSpPr txBox="1"/>
              <p:nvPr/>
            </p:nvSpPr>
            <p:spPr>
              <a:xfrm>
                <a:off x="304920" y="4800600"/>
                <a:ext cx="27525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nπx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π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" name="Rectangle 20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228600" y="6110280"/>
            <a:ext cx="87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derivation follows the traditional form given by Hab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1"/>
              <p:cNvSpPr txBox="1"/>
              <p:nvPr/>
            </p:nvSpPr>
            <p:spPr>
              <a:xfrm>
                <a:off x="304920" y="3535200"/>
                <a:ext cx="9903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TextBox 21"/>
          <p:cNvSpPr/>
          <p:nvPr/>
        </p:nvSpPr>
        <p:spPr>
          <a:xfrm>
            <a:off x="319680" y="267336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2"/>
          <p:cNvSpPr/>
          <p:nvPr/>
        </p:nvSpPr>
        <p:spPr>
          <a:xfrm>
            <a:off x="316800" y="393372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2"/>
              <p:cNvSpPr txBox="1"/>
              <p:nvPr/>
            </p:nvSpPr>
            <p:spPr>
              <a:xfrm>
                <a:off x="5181480" y="1447920"/>
                <a:ext cx="32212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nπ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ve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0</m:t>
                                  </m:r>
                                </m:num>
                                <m:den>
                                  <m:r>
                                    <m:t xml:space="preserve">nπ</m:t>
                                  </m:r>
                                </m:den>
                              </m:f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d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TextBox 24"/>
          <p:cNvSpPr/>
          <p:nvPr/>
        </p:nvSpPr>
        <p:spPr>
          <a:xfrm>
            <a:off x="4575960" y="16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6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5410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thematica Presentation 1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o to Mathematica Pres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thematica Presentation 2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o to Mathematica Pres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-28800"/>
            <a:ext cx="5334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thematica Presentation 3-4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thogonal Fun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2"/>
              <p:cNvSpPr txBox="1"/>
              <p:nvPr/>
            </p:nvSpPr>
            <p:spPr>
              <a:xfrm>
                <a:off x="2813040" y="1676520"/>
                <a:ext cx="33894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π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mπ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≠</m:t>
                              </m:r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=</m:t>
                              </m:r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3894120" cy="238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46483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9:13:15Z</dcterms:created>
  <dc:creator>mark.nixon</dc:creator>
  <dc:description/>
  <dc:language>en-US</dc:language>
  <cp:lastModifiedBy>Stephen Wilkerson</cp:lastModifiedBy>
  <dcterms:modified xsi:type="dcterms:W3CDTF">2010-10-13T02:59:39Z</dcterms:modified>
  <cp:revision>97</cp:revision>
  <dc:subject/>
  <dc:title>Slide 1</dc:title>
</cp:coreProperties>
</file>