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77075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59676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5967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5967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25023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952560"/>
            <a:ext cx="25023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952560"/>
            <a:ext cx="25023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596760"/>
            <a:ext cx="25023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596760"/>
            <a:ext cx="25023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596760"/>
            <a:ext cx="25023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952560"/>
            <a:ext cx="777240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67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5967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9676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51920" y="6095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9"/>
          <p:cNvSpPr/>
          <p:nvPr/>
        </p:nvSpPr>
        <p:spPr>
          <a:xfrm>
            <a:off x="952560" y="6361200"/>
            <a:ext cx="7543800" cy="0"/>
          </a:xfrm>
          <a:prstGeom prst="line">
            <a:avLst/>
          </a:prstGeom>
          <a:ln cap="sq"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19"/>
          <p:cNvSpPr/>
          <p:nvPr/>
        </p:nvSpPr>
        <p:spPr>
          <a:xfrm>
            <a:off x="952560" y="6442200"/>
            <a:ext cx="7543800" cy="0"/>
          </a:xfrm>
          <a:prstGeom prst="line">
            <a:avLst/>
          </a:prstGeom>
          <a:ln cap="sq"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9"/>
          <p:cNvSpPr/>
          <p:nvPr/>
        </p:nvSpPr>
        <p:spPr>
          <a:xfrm>
            <a:off x="952560" y="6518160"/>
            <a:ext cx="7543800" cy="0"/>
          </a:xfrm>
          <a:prstGeom prst="line">
            <a:avLst/>
          </a:prstGeom>
          <a:ln cap="sq"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6400800" y="61228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Page </a:t>
            </a:r>
            <a:fld id="{DA1089EF-454B-4044-A455-0830C7F209F0}" type="slidenum"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2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5131080" y="531720"/>
            <a:ext cx="25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Wolfram Technology Conference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3"/>
          <p:cNvSpPr/>
          <p:nvPr/>
        </p:nvSpPr>
        <p:spPr>
          <a:xfrm>
            <a:off x="3505320" y="6269040"/>
            <a:ext cx="2095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IMBIS SERVIC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85800" y="952560"/>
            <a:ext cx="77724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206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20"/>
          <p:cNvSpPr/>
          <p:nvPr/>
        </p:nvSpPr>
        <p:spPr>
          <a:xfrm>
            <a:off x="7238880" y="6519960"/>
            <a:ext cx="14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2010.10.1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25"/>
          <p:cNvSpPr/>
          <p:nvPr/>
        </p:nvSpPr>
        <p:spPr>
          <a:xfrm>
            <a:off x="3048120" y="6524640"/>
            <a:ext cx="30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www.nimbisservice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N-black02_C02b_Registered"/>
          <p:cNvPicPr/>
          <p:nvPr/>
        </p:nvPicPr>
        <p:blipFill>
          <a:blip r:embed="rId3"/>
          <a:stretch/>
        </p:blipFill>
        <p:spPr>
          <a:xfrm>
            <a:off x="266760" y="6134040"/>
            <a:ext cx="61272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image" Target="../media/image39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C:\Documents and Settings\Mark\Desktop\Picture2 copy.png"/>
          <p:cNvPicPr/>
          <p:nvPr/>
        </p:nvPicPr>
        <p:blipFill>
          <a:blip r:embed="rId1"/>
          <a:stretch/>
        </p:blipFill>
        <p:spPr>
          <a:xfrm>
            <a:off x="669960" y="817560"/>
            <a:ext cx="7802640" cy="230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05040"/>
            <a:ext cx="8226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 HPC Cloud Service Port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1880" y="4003200"/>
            <a:ext cx="7642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ud Services for Mathemat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G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 of Engineering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mbis Servic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.gray@nimbisservic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Mark\My Documents\Keep\Nimbis_Services\Marketing\Website_Images\Logos\amazon_logo_transparent.png"/>
          <p:cNvPicPr/>
          <p:nvPr/>
        </p:nvPicPr>
        <p:blipFill>
          <a:blip r:embed="rId2"/>
          <a:stretch/>
        </p:blipFill>
        <p:spPr>
          <a:xfrm>
            <a:off x="5762520" y="1739880"/>
            <a:ext cx="1575000" cy="57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Mark\My Documents\Keep\Nimbis_Services\Marketing\Website_Images\Logos\r_systems_logo_transparent.png"/>
          <p:cNvPicPr/>
          <p:nvPr/>
        </p:nvPicPr>
        <p:blipFill>
          <a:blip r:embed="rId3"/>
          <a:stretch/>
        </p:blipFill>
        <p:spPr>
          <a:xfrm>
            <a:off x="1422360" y="1508040"/>
            <a:ext cx="211284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Documents and Settings\Mark\Desktop\Untitled-2.gif"/>
          <p:cNvPicPr/>
          <p:nvPr/>
        </p:nvPicPr>
        <p:blipFill>
          <a:blip r:embed="rId4"/>
          <a:stretch/>
        </p:blipFill>
        <p:spPr>
          <a:xfrm>
            <a:off x="3524400" y="2060640"/>
            <a:ext cx="204624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Mark\My Documents\Keep\Nimbis_Services\Marketing\Logo\Logo+Name\Medium\Nimbis_Logo+Name_500x89.png"/>
          <p:cNvPicPr/>
          <p:nvPr/>
        </p:nvPicPr>
        <p:blipFill>
          <a:blip r:embed="rId5"/>
          <a:stretch/>
        </p:blipFill>
        <p:spPr>
          <a:xfrm>
            <a:off x="3162240" y="1279440"/>
            <a:ext cx="27925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oud Services for Mathem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a Home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623880" y="971640"/>
            <a:ext cx="7896240" cy="40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Box 7"/>
          <p:cNvSpPr/>
          <p:nvPr/>
        </p:nvSpPr>
        <p:spPr>
          <a:xfrm>
            <a:off x="808200" y="5002200"/>
            <a:ext cx="184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Optional for Buyer auth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841920" y="5041800"/>
            <a:ext cx="211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Optional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Purchas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Large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6684840" y="5003640"/>
            <a:ext cx="191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Pay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Nimbis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Pay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ing a J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96960" y="1009800"/>
            <a:ext cx="210816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3305160" y="971640"/>
            <a:ext cx="5176800" cy="45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Right Arrow 8"/>
          <p:cNvSpPr/>
          <p:nvPr/>
        </p:nvSpPr>
        <p:spPr>
          <a:xfrm>
            <a:off x="2894040" y="1717560"/>
            <a:ext cx="411120" cy="301680"/>
          </a:xfrm>
          <a:prstGeom prst="rightArrow">
            <a:avLst>
              <a:gd name="adj1" fmla="val 50000"/>
              <a:gd name="adj2" fmla="val 518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ight Arrow 8"/>
          <p:cNvSpPr/>
          <p:nvPr/>
        </p:nvSpPr>
        <p:spPr>
          <a:xfrm>
            <a:off x="3430440" y="4856040"/>
            <a:ext cx="411480" cy="301680"/>
          </a:xfrm>
          <a:prstGeom prst="rightArrow">
            <a:avLst>
              <a:gd name="adj1" fmla="val 50000"/>
              <a:gd name="adj2" fmla="val 5186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846000" y="2314440"/>
            <a:ext cx="1844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1. Select a Compute Provider from the C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500120" y="4579920"/>
            <a:ext cx="1843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2. Select a Compute Cluster Instanc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4495680" y="4664160"/>
            <a:ext cx="3994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Job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= Your Notebook + EC2 Instance + Mathematica +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152360" y="976320"/>
            <a:ext cx="683928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TextBox 7"/>
          <p:cNvSpPr/>
          <p:nvPr/>
        </p:nvSpPr>
        <p:spPr>
          <a:xfrm>
            <a:off x="5302080" y="3362400"/>
            <a:ext cx="20527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is page describes the pre-configured job service and the next page contains the configurable job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921040" y="1009800"/>
            <a:ext cx="4836960" cy="50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e Job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ight Arrow 7"/>
          <p:cNvSpPr/>
          <p:nvPr/>
        </p:nvSpPr>
        <p:spPr>
          <a:xfrm>
            <a:off x="2603520" y="1469880"/>
            <a:ext cx="409680" cy="303480"/>
          </a:xfrm>
          <a:prstGeom prst="rightArrow">
            <a:avLst>
              <a:gd name="adj1" fmla="val 50000"/>
              <a:gd name="adj2" fmla="val 513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ight Arrow 9"/>
          <p:cNvSpPr/>
          <p:nvPr/>
        </p:nvSpPr>
        <p:spPr>
          <a:xfrm>
            <a:off x="2603520" y="2738520"/>
            <a:ext cx="409680" cy="303120"/>
          </a:xfrm>
          <a:prstGeom prst="rightArrow">
            <a:avLst>
              <a:gd name="adj1" fmla="val 50000"/>
              <a:gd name="adj2" fmla="val 513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ight Arrow 11"/>
          <p:cNvSpPr/>
          <p:nvPr/>
        </p:nvSpPr>
        <p:spPr>
          <a:xfrm flipH="1">
            <a:off x="3765600" y="5727600"/>
            <a:ext cx="409680" cy="303480"/>
          </a:xfrm>
          <a:prstGeom prst="rightArrow">
            <a:avLst>
              <a:gd name="adj1" fmla="val 50000"/>
              <a:gd name="adj2" fmla="val 513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4172040" y="5502240"/>
            <a:ext cx="4510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4. Click here to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alibri"/>
              </a:rPr>
              <a:t>add to shopping cart</a:t>
            </a: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693720" y="1316160"/>
            <a:ext cx="2035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1. Choose the number of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alibri"/>
              </a:rPr>
              <a:t>parallel kernels</a:t>
            </a: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93720" y="2468520"/>
            <a:ext cx="195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2. Choose the number of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alibri"/>
              </a:rPr>
              <a:t>parallel instances</a:t>
            </a: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ight Arrow 9"/>
          <p:cNvSpPr/>
          <p:nvPr/>
        </p:nvSpPr>
        <p:spPr>
          <a:xfrm>
            <a:off x="2612880" y="3471840"/>
            <a:ext cx="409680" cy="303120"/>
          </a:xfrm>
          <a:prstGeom prst="rightArrow">
            <a:avLst>
              <a:gd name="adj1" fmla="val 50000"/>
              <a:gd name="adj2" fmla="val 513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693720" y="3397320"/>
            <a:ext cx="191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3. Set a maximum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alibri"/>
              </a:rPr>
              <a:t>time limit </a:t>
            </a: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(in hours). Unused hours are credited back to your accou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5992920" y="1054080"/>
            <a:ext cx="17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hoose your job option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654120" y="1163520"/>
            <a:ext cx="7839000" cy="42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load Input Notebook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1384200" y="3352680"/>
            <a:ext cx="3767400" cy="2803680"/>
          </a:xfrm>
          <a:prstGeom prst="rect">
            <a:avLst/>
          </a:prstGeom>
          <a:ln w="0">
            <a:noFill/>
          </a:ln>
        </p:spPr>
      </p:pic>
      <p:sp>
        <p:nvSpPr>
          <p:cNvPr id="188" name="Right Arrow 7"/>
          <p:cNvSpPr/>
          <p:nvPr/>
        </p:nvSpPr>
        <p:spPr>
          <a:xfrm rot="5400000">
            <a:off x="2534400" y="2064600"/>
            <a:ext cx="409680" cy="303120"/>
          </a:xfrm>
          <a:prstGeom prst="rightArrow">
            <a:avLst>
              <a:gd name="adj1" fmla="val 50000"/>
              <a:gd name="adj2" fmla="val 513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ight Arrow 7"/>
          <p:cNvSpPr/>
          <p:nvPr/>
        </p:nvSpPr>
        <p:spPr>
          <a:xfrm>
            <a:off x="1666800" y="3736800"/>
            <a:ext cx="409680" cy="303480"/>
          </a:xfrm>
          <a:prstGeom prst="rightArrow">
            <a:avLst>
              <a:gd name="adj1" fmla="val 50000"/>
              <a:gd name="adj2" fmla="val 513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2536920" y="4311720"/>
            <a:ext cx="2035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2. Select and Open an input notebook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575080" y="1708200"/>
            <a:ext cx="5030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1. Choose to upload a notebook from you local mach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ight Arrow 7"/>
          <p:cNvSpPr/>
          <p:nvPr/>
        </p:nvSpPr>
        <p:spPr>
          <a:xfrm flipV="1" rot="16200000">
            <a:off x="7822440" y="5362560"/>
            <a:ext cx="409320" cy="303120"/>
          </a:xfrm>
          <a:prstGeom prst="rightArrow">
            <a:avLst>
              <a:gd name="adj1" fmla="val 50000"/>
              <a:gd name="adj2" fmla="val 513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6492960" y="5656320"/>
            <a:ext cx="2035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3. Go to Check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7"/>
          <p:cNvSpPr/>
          <p:nvPr/>
        </p:nvSpPr>
        <p:spPr>
          <a:xfrm rot="5400000">
            <a:off x="4634640" y="5363280"/>
            <a:ext cx="409320" cy="303120"/>
          </a:xfrm>
          <a:prstGeom prst="rightArrow">
            <a:avLst>
              <a:gd name="adj1" fmla="val 50000"/>
              <a:gd name="adj2" fmla="val 513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&amp; Agre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170000" y="1049400"/>
            <a:ext cx="6743520" cy="479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Right Arrow 7"/>
          <p:cNvSpPr/>
          <p:nvPr/>
        </p:nvSpPr>
        <p:spPr>
          <a:xfrm>
            <a:off x="846000" y="3044880"/>
            <a:ext cx="409680" cy="303120"/>
          </a:xfrm>
          <a:prstGeom prst="rightArrow">
            <a:avLst>
              <a:gd name="adj1" fmla="val 50000"/>
              <a:gd name="adj2" fmla="val 513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117360" y="2276640"/>
            <a:ext cx="11131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1. Choose Payment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117360" y="4081320"/>
            <a:ext cx="1190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2. Click through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ight Arrow 7"/>
          <p:cNvSpPr/>
          <p:nvPr/>
        </p:nvSpPr>
        <p:spPr>
          <a:xfrm>
            <a:off x="846000" y="4815000"/>
            <a:ext cx="409680" cy="303120"/>
          </a:xfrm>
          <a:prstGeom prst="rightArrow">
            <a:avLst>
              <a:gd name="adj1" fmla="val 50000"/>
              <a:gd name="adj2" fmla="val 513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ight Arrow 7"/>
          <p:cNvSpPr/>
          <p:nvPr/>
        </p:nvSpPr>
        <p:spPr>
          <a:xfrm flipV="1" rot="5400000">
            <a:off x="7053840" y="5056560"/>
            <a:ext cx="409680" cy="303480"/>
          </a:xfrm>
          <a:prstGeom prst="rightArrow">
            <a:avLst>
              <a:gd name="adj1" fmla="val 50000"/>
              <a:gd name="adj2" fmla="val 513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6415200" y="4619520"/>
            <a:ext cx="165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3. Review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 the Job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171440" y="958680"/>
            <a:ext cx="6818400" cy="50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Right Arrow 3"/>
          <p:cNvSpPr/>
          <p:nvPr/>
        </p:nvSpPr>
        <p:spPr>
          <a:xfrm flipV="1" rot="5400000">
            <a:off x="7246080" y="5171400"/>
            <a:ext cx="409680" cy="303120"/>
          </a:xfrm>
          <a:prstGeom prst="rightArrow">
            <a:avLst>
              <a:gd name="adj1" fmla="val 50000"/>
              <a:gd name="adj2" fmla="val 513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6453360" y="4748040"/>
            <a:ext cx="1996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Submit the job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View Window – Exec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04880" y="1457280"/>
            <a:ext cx="7734240" cy="39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Rounded Rectangle 3"/>
          <p:cNvSpPr/>
          <p:nvPr/>
        </p:nvSpPr>
        <p:spPr>
          <a:xfrm>
            <a:off x="2998800" y="1778040"/>
            <a:ext cx="882720" cy="690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ounded Rectangle 4"/>
          <p:cNvSpPr/>
          <p:nvPr/>
        </p:nvSpPr>
        <p:spPr>
          <a:xfrm>
            <a:off x="770040" y="3813120"/>
            <a:ext cx="1496880" cy="88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ounded Rectangle 5"/>
          <p:cNvSpPr/>
          <p:nvPr/>
        </p:nvSpPr>
        <p:spPr>
          <a:xfrm>
            <a:off x="770040" y="4695840"/>
            <a:ext cx="1689120" cy="30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186520" y="3589200"/>
            <a:ext cx="2457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Job output files will be posted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ounded Rectangle 7"/>
          <p:cNvSpPr/>
          <p:nvPr/>
        </p:nvSpPr>
        <p:spPr>
          <a:xfrm>
            <a:off x="4381560" y="1778040"/>
            <a:ext cx="1380960" cy="690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2843280" y="1432080"/>
            <a:ext cx="1190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Job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3881520" y="1432080"/>
            <a:ext cx="237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Mathematica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2498760" y="4703760"/>
            <a:ext cx="1689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Input Not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2266920" y="4089240"/>
            <a:ext cx="1690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View Window – Finis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9280" y="1447920"/>
            <a:ext cx="770544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Rounded Rectangle 3"/>
          <p:cNvSpPr/>
          <p:nvPr/>
        </p:nvSpPr>
        <p:spPr>
          <a:xfrm>
            <a:off x="808200" y="3505320"/>
            <a:ext cx="1690560" cy="30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36920" y="3513240"/>
            <a:ext cx="1689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Executi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ounded Rectangle 5"/>
          <p:cNvSpPr/>
          <p:nvPr/>
        </p:nvSpPr>
        <p:spPr>
          <a:xfrm>
            <a:off x="2998800" y="1778040"/>
            <a:ext cx="882720" cy="690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2843280" y="1432080"/>
            <a:ext cx="1190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Job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ounded Rectangle 7"/>
          <p:cNvSpPr/>
          <p:nvPr/>
        </p:nvSpPr>
        <p:spPr>
          <a:xfrm>
            <a:off x="4381560" y="3467160"/>
            <a:ext cx="3608280" cy="30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5262480" y="3467160"/>
            <a:ext cx="1152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Not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ight Arrow 11"/>
          <p:cNvSpPr/>
          <p:nvPr/>
        </p:nvSpPr>
        <p:spPr>
          <a:xfrm flipH="1">
            <a:off x="7951680" y="3429000"/>
            <a:ext cx="409680" cy="303120"/>
          </a:xfrm>
          <a:prstGeom prst="rightArrow">
            <a:avLst>
              <a:gd name="adj1" fmla="val 50000"/>
              <a:gd name="adj2" fmla="val 513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8373960" y="3274920"/>
            <a:ext cx="6303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39640" y="817560"/>
            <a:ext cx="3848040" cy="2600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1890720" y="1508040"/>
            <a:ext cx="5362560" cy="3990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4572000" y="3390840"/>
            <a:ext cx="3990960" cy="26002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0"/>
          <p:cNvSpPr/>
          <p:nvPr/>
        </p:nvSpPr>
        <p:spPr>
          <a:xfrm>
            <a:off x="2805120" y="1123920"/>
            <a:ext cx="157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Down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5646600" y="2092320"/>
            <a:ext cx="157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6953400" y="3659040"/>
            <a:ext cx="157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952560"/>
            <a:ext cx="777240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mbis Cloud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ud Services for Mathe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&amp;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Documents and Settings\Mark\My Documents\Keep\Nimbis_Services\Marketing\Website_Images\Logos\amazon_logo_transparent.png"/>
          <p:cNvPicPr/>
          <p:nvPr/>
        </p:nvPicPr>
        <p:blipFill>
          <a:blip r:embed="rId1"/>
          <a:stretch/>
        </p:blipFill>
        <p:spPr>
          <a:xfrm>
            <a:off x="5800680" y="3236760"/>
            <a:ext cx="1575000" cy="57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Documents and Settings\Mark\My Documents\Keep\Nimbis_Services\Marketing\Website_Images\Logos\r_systems_logo_transparent.png"/>
          <p:cNvPicPr/>
          <p:nvPr/>
        </p:nvPicPr>
        <p:blipFill>
          <a:blip r:embed="rId2"/>
          <a:stretch/>
        </p:blipFill>
        <p:spPr>
          <a:xfrm>
            <a:off x="5570640" y="4235400"/>
            <a:ext cx="2112840" cy="95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C:\Documents and Settings\Mark\Desktop\Untitled-2.gif"/>
          <p:cNvPicPr/>
          <p:nvPr/>
        </p:nvPicPr>
        <p:blipFill>
          <a:blip r:embed="rId3"/>
          <a:stretch/>
        </p:blipFill>
        <p:spPr>
          <a:xfrm>
            <a:off x="5570640" y="2162160"/>
            <a:ext cx="2046240" cy="581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Mark\My Documents\Keep\Nimbis_Services\Marketing\Logo\Logo+Name\Medium\Nimbis_Logo+Name_500x89.png"/>
          <p:cNvPicPr/>
          <p:nvPr/>
        </p:nvPicPr>
        <p:blipFill>
          <a:blip r:embed="rId4"/>
          <a:stretch/>
        </p:blipFill>
        <p:spPr>
          <a:xfrm>
            <a:off x="5197320" y="1047600"/>
            <a:ext cx="27925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922400" y="1461960"/>
            <a:ext cx="5259600" cy="46548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7"/>
          <p:cNvSpPr/>
          <p:nvPr/>
        </p:nvSpPr>
        <p:spPr>
          <a:xfrm>
            <a:off x="654120" y="785880"/>
            <a:ext cx="7835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When download completes, your desktop Mathematica automatically launches and displays the output notebook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flow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423720" y="1079640"/>
            <a:ext cx="1686240" cy="98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693720" y="1386000"/>
            <a:ext cx="3827520" cy="33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1116000" y="1644480"/>
            <a:ext cx="4089240" cy="30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2" name="Picture 6" descr=""/>
          <p:cNvPicPr/>
          <p:nvPr/>
        </p:nvPicPr>
        <p:blipFill>
          <a:blip r:embed="rId4"/>
          <a:stretch/>
        </p:blipFill>
        <p:spPr>
          <a:xfrm>
            <a:off x="1652760" y="1924200"/>
            <a:ext cx="4228920" cy="22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" descr=""/>
          <p:cNvPicPr/>
          <p:nvPr/>
        </p:nvPicPr>
        <p:blipFill>
          <a:blip r:embed="rId5"/>
          <a:stretch/>
        </p:blipFill>
        <p:spPr>
          <a:xfrm>
            <a:off x="2143080" y="2192400"/>
            <a:ext cx="4079880" cy="29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7" descr=""/>
          <p:cNvPicPr/>
          <p:nvPr/>
        </p:nvPicPr>
        <p:blipFill>
          <a:blip r:embed="rId6"/>
          <a:srcRect l="0" t="0" r="501" b="0"/>
          <a:stretch/>
        </p:blipFill>
        <p:spPr>
          <a:xfrm>
            <a:off x="2651040" y="2462040"/>
            <a:ext cx="5079960" cy="2841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45" name="TextBox 10"/>
          <p:cNvSpPr/>
          <p:nvPr/>
        </p:nvSpPr>
        <p:spPr>
          <a:xfrm>
            <a:off x="461880" y="779400"/>
            <a:ext cx="1575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Browse 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0"/>
          <p:cNvSpPr/>
          <p:nvPr/>
        </p:nvSpPr>
        <p:spPr>
          <a:xfrm>
            <a:off x="2114640" y="1085760"/>
            <a:ext cx="2381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Select a Cloud 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4533840" y="1347840"/>
            <a:ext cx="23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onfigure Job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5224320" y="1616040"/>
            <a:ext cx="1575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Pay for one 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78440" y="1892160"/>
            <a:ext cx="153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Submit One 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6222960" y="2162160"/>
            <a:ext cx="1382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View one 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7"/>
          <a:stretch/>
        </p:blipFill>
        <p:spPr>
          <a:xfrm>
            <a:off x="3201840" y="2730600"/>
            <a:ext cx="4519800" cy="33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2" name="TextBox 15"/>
          <p:cNvSpPr/>
          <p:nvPr/>
        </p:nvSpPr>
        <p:spPr>
          <a:xfrm>
            <a:off x="6531120" y="2430360"/>
            <a:ext cx="138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View all J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8"/>
          <a:stretch/>
        </p:blipFill>
        <p:spPr>
          <a:xfrm>
            <a:off x="3730680" y="2971800"/>
            <a:ext cx="3990960" cy="2600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9"/>
          <a:stretch/>
        </p:blipFill>
        <p:spPr>
          <a:xfrm>
            <a:off x="4726080" y="3274920"/>
            <a:ext cx="3263760" cy="28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5" name="TextBox 18"/>
          <p:cNvSpPr/>
          <p:nvPr/>
        </p:nvSpPr>
        <p:spPr>
          <a:xfrm>
            <a:off x="6915240" y="2706840"/>
            <a:ext cx="172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Downloa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7219800" y="3505320"/>
            <a:ext cx="165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Display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6761160" y="838080"/>
            <a:ext cx="2189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b 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ngle Note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tch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231840" y="5156280"/>
            <a:ext cx="215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Job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Your Notebook + Compute Resource + Mathematica +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68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&amp; 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azon EC2 Configu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Documents and Settings\Mark\My Documents\Keep\Nimbis_Services\Projects-4-IRAD\Cloud.Services.for.Mathematica.Program\Catalog\Math_on_EC2.png"/>
          <p:cNvPicPr/>
          <p:nvPr/>
        </p:nvPicPr>
        <p:blipFill>
          <a:blip r:embed="rId1"/>
          <a:stretch/>
        </p:blipFill>
        <p:spPr>
          <a:xfrm>
            <a:off x="1735200" y="825480"/>
            <a:ext cx="56782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Systems Configu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Mark\My Documents\Keep\Nimbis_Services\Projects-4-IRAD\Cloud.Services.for.Mathematica.Program\Catalog\Math_on_RS.png"/>
          <p:cNvPicPr/>
          <p:nvPr/>
        </p:nvPicPr>
        <p:blipFill>
          <a:blip r:embed="rId1"/>
          <a:stretch/>
        </p:blipFill>
        <p:spPr>
          <a:xfrm>
            <a:off x="1730520" y="817560"/>
            <a:ext cx="56372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77520" y="1047240"/>
            <a:ext cx="83106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Notebook  = FFT Bench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9" descr=""/>
          <p:cNvPicPr/>
          <p:nvPr/>
        </p:nvPicPr>
        <p:blipFill>
          <a:blip r:embed="rId1"/>
          <a:stretch/>
        </p:blipFill>
        <p:spPr>
          <a:xfrm>
            <a:off x="781200" y="4551480"/>
            <a:ext cx="7581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7" name="Picture 20" descr=""/>
          <p:cNvPicPr/>
          <p:nvPr/>
        </p:nvPicPr>
        <p:blipFill>
          <a:blip r:embed="rId2"/>
          <a:stretch/>
        </p:blipFill>
        <p:spPr>
          <a:xfrm>
            <a:off x="771480" y="2563920"/>
            <a:ext cx="7601040" cy="98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8" name="Content Placeholder 5"/>
          <p:cNvSpPr/>
          <p:nvPr/>
        </p:nvSpPr>
        <p:spPr>
          <a:xfrm>
            <a:off x="717480" y="1778040"/>
            <a:ext cx="78105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Environment = Amazon EC2 High-Memory Quadruple Extra Large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rocessor = 4-core Intel Xeon X5550 (Nahelem) 2.66GHz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ntent Placeholder 5"/>
          <p:cNvSpPr/>
          <p:nvPr/>
        </p:nvSpPr>
        <p:spPr>
          <a:xfrm>
            <a:off x="677880" y="3927600"/>
            <a:ext cx="8156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Environment = Hapertown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rocessor = 4-core Intel Xeon 2.8GHz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9"/>
          <p:cNvSpPr/>
          <p:nvPr/>
        </p:nvSpPr>
        <p:spPr>
          <a:xfrm>
            <a:off x="4879800" y="2622600"/>
            <a:ext cx="2764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16.9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4879800" y="4626000"/>
            <a:ext cx="2880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14.3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ight Arrow 3"/>
          <p:cNvSpPr/>
          <p:nvPr/>
        </p:nvSpPr>
        <p:spPr>
          <a:xfrm flipV="1" rot="5400000">
            <a:off x="5290200" y="3762000"/>
            <a:ext cx="409320" cy="303120"/>
          </a:xfrm>
          <a:prstGeom prst="rightArrow">
            <a:avLst>
              <a:gd name="adj1" fmla="val 50000"/>
              <a:gd name="adj2" fmla="val 513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5645160" y="3621240"/>
            <a:ext cx="2690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15% performance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37% lower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From Beta 1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85800" y="952560"/>
          <a:ext cx="7772400" cy="5003640"/>
        </p:xfrm>
        <a:graphic>
          <a:graphicData uri="http://schemas.openxmlformats.org/drawingml/2006/table">
            <a:tbl>
              <a:tblPr/>
              <a:tblGrid>
                <a:gridCol w="5729400"/>
                <a:gridCol w="204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s in notebook processing are hard to detect and debu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books can go to completion without error and generate no resul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difficult to provide web-based progress on arbitrary notebook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 web-based notebook submission lacks sufficient intera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otebook might have consumed too much memory or had a programming error when processing at scale in “the cloud”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’s expect refunds for their failed notebook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ception is that successful notebook processing is a guarante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decouple the notebook operating results from the payment of the servi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rt checkout process is familiar and simple to use, but too time consuming for short-term jobs or multiple parameterized job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dvanced users need large data files, 3rd party libraries, or other features not installed in our base Mathematica machine ima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opping-cart-per-notebook process is cumberso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like to watch the notebook as it proces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dd input dialogs and controls to their notebook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dd graphics displays to monitor progr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batch users have existing HPC resources, so not Nimbis custo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Mathematica users appear to be interactive us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10"/>
          <p:cNvSpPr/>
          <p:nvPr/>
        </p:nvSpPr>
        <p:spPr>
          <a:xfrm>
            <a:off x="5454720" y="179280"/>
            <a:ext cx="3073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Beta 1 Ended in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a 2 Additional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ontent Placeholder 2"/>
          <p:cNvSpPr/>
          <p:nvPr/>
        </p:nvSpPr>
        <p:spPr>
          <a:xfrm>
            <a:off x="685800" y="1170000"/>
            <a:ext cx="31240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a VNC button so that users can get a remote desktop view of running noteboo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C client or Java VNC browser-based deskt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ability to upload multiple input data files with the input notebo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batch process monitoring to make job execution more rob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s on err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error log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mpt to identif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 of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3803760" y="3846600"/>
            <a:ext cx="2361960" cy="177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0" name="Rectangle 5"/>
          <p:cNvSpPr/>
          <p:nvPr/>
        </p:nvSpPr>
        <p:spPr>
          <a:xfrm>
            <a:off x="3886200" y="5153040"/>
            <a:ext cx="2230560" cy="3175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2"/>
          <a:srcRect l="0" t="0" r="503" b="0"/>
          <a:stretch/>
        </p:blipFill>
        <p:spPr>
          <a:xfrm>
            <a:off x="3809880" y="1076400"/>
            <a:ext cx="47674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82" name="TextBox 7"/>
          <p:cNvSpPr/>
          <p:nvPr/>
        </p:nvSpPr>
        <p:spPr>
          <a:xfrm>
            <a:off x="8173080" y="1732680"/>
            <a:ext cx="327240" cy="12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VN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800px-Kate-screenshot.png"/>
          <p:cNvPicPr/>
          <p:nvPr/>
        </p:nvPicPr>
        <p:blipFill>
          <a:blip r:embed="rId3"/>
          <a:stretch/>
        </p:blipFill>
        <p:spPr>
          <a:xfrm>
            <a:off x="6315120" y="3205080"/>
            <a:ext cx="267336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284" name="Curved Connector 10"/>
          <p:cNvCxnSpPr>
            <a:stCxn id="282" idx="2"/>
          </p:cNvCxnSpPr>
          <p:nvPr/>
        </p:nvCxnSpPr>
        <p:spPr>
          <a:xfrm rot="5400000">
            <a:off x="7269840" y="2119320"/>
            <a:ext cx="1326240" cy="8053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5" name="TextBox 10"/>
          <p:cNvSpPr/>
          <p:nvPr/>
        </p:nvSpPr>
        <p:spPr>
          <a:xfrm>
            <a:off x="5454720" y="179280"/>
            <a:ext cx="3073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Begins Novem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Enhancements Under Consid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952560"/>
            <a:ext cx="777240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Mathematica Cloud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existing Nimbis electronic commerce workflow to purcha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vate Mathematica clou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notebook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manage My Clouds, not My J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-managed Lightweight Grid Mathematic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existing Nimbis electronic commerce workflow to purchase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vate Mathematica compute kernel clo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manage My Clouds, not My J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ervice requires a deskt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cense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mi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952560"/>
            <a:ext cx="777240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1 was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iversity in application domains and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out what works and doesn’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a better understanding of user workflow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dentified some new and unique service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2 launch Novemb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ing new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for additional Beta 2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lease Januar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577800" y="4311720"/>
            <a:ext cx="798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athematica answers the programming challenge by providing an integrated technical computing platform, enabling computation, visualisation, and data access. Nimbis’ Cloud Services for Mathematica SaaS offers low risk access to large-scale computing capabilities.” says Tom Wickham-Jones, Wolfram Research, executive director of kernel technolo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Nimb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574640"/>
          <a:ext cx="7304040" cy="4577040"/>
        </p:xfrm>
        <a:graphic>
          <a:graphicData uri="http://schemas.openxmlformats.org/drawingml/2006/table">
            <a:tbl>
              <a:tblPr/>
              <a:tblGrid>
                <a:gridCol w="7304040"/>
              </a:tblGrid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broker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 access to HP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platforms, applications, and expertise through partnerships with leading cycle providers, ISVs, and domain exp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build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 HPC cloud porta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using a common and easy to use interface, the online store with on-demand, low-risk, pay-as-you-go acce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provide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 HPC optio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 experimental and periodic users stuck on the desktop that otherwise have no access to HPC; closing the “HPC Gap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make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 it easier and more affordable for desktop us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to exploit digital analysis computing for faster results and superior solu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enable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 our custom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to drive innovation, productivity, and cost-efficiency, resulting in superior produc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0"/>
          <p:cNvSpPr/>
          <p:nvPr/>
        </p:nvSpPr>
        <p:spPr>
          <a:xfrm>
            <a:off x="461880" y="971640"/>
            <a:ext cx="81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nded in 2008. Privately held corporation. McLean, 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http://www.legaljuice.com/Handshake%20hurts%20hand%20shake%20painful%20pain%20bad.GIF"/>
          <p:cNvPicPr/>
          <p:nvPr/>
        </p:nvPicPr>
        <p:blipFill>
          <a:blip r:embed="rId1"/>
          <a:stretch/>
        </p:blipFill>
        <p:spPr>
          <a:xfrm>
            <a:off x="8013600" y="1547640"/>
            <a:ext cx="860400" cy="76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www.skulpt.com/images/doors-options.jpg"/>
          <p:cNvPicPr/>
          <p:nvPr/>
        </p:nvPicPr>
        <p:blipFill>
          <a:blip r:embed="rId2"/>
          <a:stretch/>
        </p:blipFill>
        <p:spPr>
          <a:xfrm>
            <a:off x="8028000" y="3236760"/>
            <a:ext cx="811080" cy="60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Documents and Settings\Mark\Desktop\Picture1.png"/>
          <p:cNvPicPr/>
          <p:nvPr/>
        </p:nvPicPr>
        <p:blipFill>
          <a:blip r:embed="rId3"/>
          <a:stretch/>
        </p:blipFill>
        <p:spPr>
          <a:xfrm>
            <a:off x="8028000" y="2454120"/>
            <a:ext cx="811080" cy="61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bobhyatt.typepad.com/photos/uncategorized/2008/01/30/computeruser.gif"/>
          <p:cNvPicPr/>
          <p:nvPr/>
        </p:nvPicPr>
        <p:blipFill>
          <a:blip r:embed="rId4"/>
          <a:stretch/>
        </p:blipFill>
        <p:spPr>
          <a:xfrm>
            <a:off x="8066160" y="396720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http://www.betterthanpin.com/pics/faq/enable.gif"/>
          <p:cNvPicPr/>
          <p:nvPr/>
        </p:nvPicPr>
        <p:blipFill>
          <a:blip r:embed="rId5"/>
          <a:stretch/>
        </p:blipFill>
        <p:spPr>
          <a:xfrm>
            <a:off x="8066160" y="4811760"/>
            <a:ext cx="7254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68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C:\Documents and Settings\Mark\Desktop\Picture2 copy.png"/>
          <p:cNvPicPr/>
          <p:nvPr/>
        </p:nvPicPr>
        <p:blipFill>
          <a:blip r:embed="rId1"/>
          <a:stretch/>
        </p:blipFill>
        <p:spPr>
          <a:xfrm>
            <a:off x="654120" y="3352680"/>
            <a:ext cx="7802640" cy="2764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2824200" y="3506760"/>
            <a:ext cx="3495600" cy="1112760"/>
          </a:xfrm>
          <a:prstGeom prst="rect">
            <a:avLst/>
          </a:prstGeom>
          <a:solidFill>
            <a:srgbClr val="97b8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e Fit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30600" y="5273640"/>
            <a:ext cx="1882800" cy="501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PC Datace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031080" y="5273640"/>
            <a:ext cx="1882440" cy="501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main Exp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1268280" y="5273640"/>
            <a:ext cx="1882800" cy="501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3073320" y="3506760"/>
            <a:ext cx="2997360" cy="4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Documents and Settings\Mark\My Documents\Keep\Nimbis_Services\Marketing\Logo\Logo+Name\Medium\Nimbis_Logo+Name_500x89.png"/>
          <p:cNvPicPr/>
          <p:nvPr/>
        </p:nvPicPr>
        <p:blipFill>
          <a:blip r:embed="rId2"/>
          <a:stretch/>
        </p:blipFill>
        <p:spPr>
          <a:xfrm>
            <a:off x="3086280" y="4102200"/>
            <a:ext cx="2906640" cy="48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Mark\My Documents\Keep\Nimbis_Services\Marketing\Website_Images\Catalog\Nimbis_Configurations_Logo.png"/>
          <p:cNvPicPr/>
          <p:nvPr/>
        </p:nvPicPr>
        <p:blipFill>
          <a:blip r:embed="rId3"/>
          <a:stretch/>
        </p:blipFill>
        <p:spPr>
          <a:xfrm>
            <a:off x="3151080" y="3378240"/>
            <a:ext cx="398520" cy="28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Mark\My Documents\Keep\Nimbis_Services\Marketing\Website_Images\Catalog\Nimbis_Configurations_Logo.png"/>
          <p:cNvPicPr/>
          <p:nvPr/>
        </p:nvPicPr>
        <p:blipFill>
          <a:blip r:embed="rId4"/>
          <a:stretch/>
        </p:blipFill>
        <p:spPr>
          <a:xfrm>
            <a:off x="3751200" y="3371760"/>
            <a:ext cx="398520" cy="2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k\My Documents\Keep\Nimbis_Services\Marketing\Website_Images\Catalog\Nimbis_Configurations_Logo.png"/>
          <p:cNvPicPr/>
          <p:nvPr/>
        </p:nvPicPr>
        <p:blipFill>
          <a:blip r:embed="rId5"/>
          <a:stretch/>
        </p:blipFill>
        <p:spPr>
          <a:xfrm>
            <a:off x="4349880" y="3365640"/>
            <a:ext cx="399960" cy="28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Mark\My Documents\Keep\Nimbis_Services\Marketing\Website_Images\Catalog\Nimbis_Configurations_Logo.png"/>
          <p:cNvPicPr/>
          <p:nvPr/>
        </p:nvPicPr>
        <p:blipFill>
          <a:blip r:embed="rId6"/>
          <a:stretch/>
        </p:blipFill>
        <p:spPr>
          <a:xfrm>
            <a:off x="4950000" y="3359160"/>
            <a:ext cx="399960" cy="28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Mark\My Documents\Keep\Nimbis_Services\Marketing\Website_Images\Catalog\Nimbis_Configurations_Logo.png"/>
          <p:cNvPicPr/>
          <p:nvPr/>
        </p:nvPicPr>
        <p:blipFill>
          <a:blip r:embed="rId7"/>
          <a:stretch/>
        </p:blipFill>
        <p:spPr>
          <a:xfrm>
            <a:off x="5549760" y="3352680"/>
            <a:ext cx="398520" cy="282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3111480" y="3699000"/>
            <a:ext cx="29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mbis Cloud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3630600" y="2276640"/>
            <a:ext cx="1882800" cy="501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ktop-only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52"/>
          <p:cNvSpPr/>
          <p:nvPr/>
        </p:nvSpPr>
        <p:spPr>
          <a:xfrm flipV="1">
            <a:off x="3368520" y="2840040"/>
            <a:ext cx="1203480" cy="536400"/>
          </a:xfrm>
          <a:prstGeom prst="line">
            <a:avLst/>
          </a:prstGeom>
          <a:ln w="255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55"/>
          <p:cNvSpPr/>
          <p:nvPr/>
        </p:nvSpPr>
        <p:spPr>
          <a:xfrm flipV="1">
            <a:off x="3968640" y="2832120"/>
            <a:ext cx="603360" cy="544320"/>
          </a:xfrm>
          <a:prstGeom prst="line">
            <a:avLst/>
          </a:prstGeom>
          <a:ln w="255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58"/>
          <p:cNvSpPr/>
          <p:nvPr/>
        </p:nvSpPr>
        <p:spPr>
          <a:xfrm flipV="1">
            <a:off x="4568040" y="2825640"/>
            <a:ext cx="3240" cy="550800"/>
          </a:xfrm>
          <a:prstGeom prst="line">
            <a:avLst/>
          </a:prstGeom>
          <a:ln w="255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61"/>
          <p:cNvSpPr/>
          <p:nvPr/>
        </p:nvSpPr>
        <p:spPr>
          <a:xfrm flipH="1" flipV="1">
            <a:off x="4572000" y="2819160"/>
            <a:ext cx="596880" cy="556920"/>
          </a:xfrm>
          <a:prstGeom prst="line">
            <a:avLst/>
          </a:prstGeom>
          <a:ln w="255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64"/>
          <p:cNvSpPr/>
          <p:nvPr/>
        </p:nvSpPr>
        <p:spPr>
          <a:xfrm flipH="1" flipV="1">
            <a:off x="4571640" y="2812680"/>
            <a:ext cx="1197000" cy="563400"/>
          </a:xfrm>
          <a:prstGeom prst="line">
            <a:avLst/>
          </a:prstGeom>
          <a:ln w="255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Shape 70"/>
          <p:cNvCxnSpPr>
            <a:stCxn id="75" idx="0"/>
            <a:endCxn id="71" idx="1"/>
          </p:cNvCxnSpPr>
          <p:nvPr/>
        </p:nvCxnSpPr>
        <p:spPr>
          <a:xfrm flipH="1" flipV="1" rot="5400000">
            <a:off x="1910160" y="4359960"/>
            <a:ext cx="1212120" cy="615240"/>
          </a:xfrm>
          <a:prstGeom prst="bentConnector2">
            <a:avLst/>
          </a:prstGeom>
          <a:ln w="50760">
            <a:solidFill>
              <a:srgbClr val="00cc98"/>
            </a:solidFill>
            <a:miter/>
          </a:ln>
        </p:spPr>
      </p:cxnSp>
      <p:cxnSp>
        <p:nvCxnSpPr>
          <p:cNvPr id="91" name="Shape 71"/>
          <p:cNvCxnSpPr>
            <a:stCxn id="74" idx="0"/>
            <a:endCxn id="71" idx="3"/>
          </p:cNvCxnSpPr>
          <p:nvPr/>
        </p:nvCxnSpPr>
        <p:spPr>
          <a:xfrm flipV="1" rot="16200000">
            <a:off x="6039720" y="4340880"/>
            <a:ext cx="1212120" cy="653400"/>
          </a:xfrm>
          <a:prstGeom prst="bentConnector2">
            <a:avLst/>
          </a:prstGeom>
          <a:ln w="50760">
            <a:solidFill>
              <a:srgbClr val="00cc98"/>
            </a:solidFill>
            <a:miter/>
          </a:ln>
        </p:spPr>
      </p:cxnSp>
      <p:sp>
        <p:nvSpPr>
          <p:cNvPr id="92" name="Straight Connector 75"/>
          <p:cNvSpPr/>
          <p:nvPr/>
        </p:nvSpPr>
        <p:spPr>
          <a:xfrm flipV="1">
            <a:off x="4572000" y="4619160"/>
            <a:ext cx="0" cy="654120"/>
          </a:xfrm>
          <a:prstGeom prst="line">
            <a:avLst/>
          </a:prstGeom>
          <a:ln w="507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23720" y="4842000"/>
            <a:ext cx="833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-negotiated, pre-qualified, pre-configured , license management, integrated technologies, Nimbis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93680" y="2930400"/>
            <a:ext cx="871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torefront, user registration, click-thru agreements, access permissions, on-demand services, job &amp; bill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84"/>
          <p:cNvGrpSpPr/>
          <p:nvPr/>
        </p:nvGrpSpPr>
        <p:grpSpPr>
          <a:xfrm>
            <a:off x="2536920" y="1047600"/>
            <a:ext cx="1112760" cy="1098720"/>
            <a:chOff x="2536920" y="1047600"/>
            <a:chExt cx="1112760" cy="1098720"/>
          </a:xfrm>
        </p:grpSpPr>
        <p:pic>
          <p:nvPicPr>
            <p:cNvPr id="96" name="Picture 38" descr="http://www.unm.edu/~idea/student.jpg"/>
            <p:cNvPicPr/>
            <p:nvPr/>
          </p:nvPicPr>
          <p:blipFill>
            <a:blip r:embed="rId8"/>
            <a:stretch/>
          </p:blipFill>
          <p:spPr>
            <a:xfrm>
              <a:off x="2728800" y="1316520"/>
              <a:ext cx="767880" cy="82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0"/>
            <p:cNvSpPr/>
            <p:nvPr/>
          </p:nvSpPr>
          <p:spPr>
            <a:xfrm>
              <a:off x="2536920" y="1047600"/>
              <a:ext cx="111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earc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85"/>
          <p:cNvGrpSpPr/>
          <p:nvPr/>
        </p:nvGrpSpPr>
        <p:grpSpPr>
          <a:xfrm>
            <a:off x="3535200" y="1047600"/>
            <a:ext cx="1113120" cy="1114560"/>
            <a:chOff x="3535200" y="1047600"/>
            <a:chExt cx="1113120" cy="1114560"/>
          </a:xfrm>
        </p:grpSpPr>
        <p:pic>
          <p:nvPicPr>
            <p:cNvPr id="99" name="Picture 32" descr="ScientistScetch081005.jpg image by anrwlias"/>
            <p:cNvPicPr/>
            <p:nvPr/>
          </p:nvPicPr>
          <p:blipFill>
            <a:blip r:embed="rId9"/>
            <a:stretch/>
          </p:blipFill>
          <p:spPr>
            <a:xfrm>
              <a:off x="3880080" y="1316520"/>
              <a:ext cx="419400" cy="84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0"/>
            <p:cNvSpPr/>
            <p:nvPr/>
          </p:nvSpPr>
          <p:spPr>
            <a:xfrm>
              <a:off x="3535200" y="1047600"/>
              <a:ext cx="111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cient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87"/>
          <p:cNvGrpSpPr/>
          <p:nvPr/>
        </p:nvGrpSpPr>
        <p:grpSpPr>
          <a:xfrm>
            <a:off x="5532480" y="1047600"/>
            <a:ext cx="1112760" cy="1114560"/>
            <a:chOff x="5532480" y="1047600"/>
            <a:chExt cx="1112760" cy="1114560"/>
          </a:xfrm>
        </p:grpSpPr>
        <p:pic>
          <p:nvPicPr>
            <p:cNvPr id="102" name="Picture 36" descr="http://www.tnpi.net/cart/sc_images/products/389_large_image.jpg"/>
            <p:cNvPicPr/>
            <p:nvPr/>
          </p:nvPicPr>
          <p:blipFill>
            <a:blip r:embed="rId10"/>
            <a:stretch/>
          </p:blipFill>
          <p:spPr>
            <a:xfrm>
              <a:off x="5724360" y="1333080"/>
              <a:ext cx="729360" cy="8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10"/>
            <p:cNvSpPr/>
            <p:nvPr/>
          </p:nvSpPr>
          <p:spPr>
            <a:xfrm>
              <a:off x="5532480" y="1047600"/>
              <a:ext cx="111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gine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86"/>
          <p:cNvGrpSpPr/>
          <p:nvPr/>
        </p:nvGrpSpPr>
        <p:grpSpPr>
          <a:xfrm>
            <a:off x="4533840" y="1047600"/>
            <a:ext cx="1112760" cy="1114560"/>
            <a:chOff x="4533840" y="1047600"/>
            <a:chExt cx="1112760" cy="1114560"/>
          </a:xfrm>
        </p:grpSpPr>
        <p:sp>
          <p:nvSpPr>
            <p:cNvPr id="105" name="Rectangle 10"/>
            <p:cNvSpPr/>
            <p:nvPr/>
          </p:nvSpPr>
          <p:spPr>
            <a:xfrm>
              <a:off x="4533840" y="1047600"/>
              <a:ext cx="111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aly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Picture 40" descr=""/>
            <p:cNvPicPr/>
            <p:nvPr/>
          </p:nvPicPr>
          <p:blipFill>
            <a:blip r:embed="rId11"/>
            <a:stretch/>
          </p:blipFill>
          <p:spPr>
            <a:xfrm>
              <a:off x="4666680" y="1326240"/>
              <a:ext cx="826200" cy="83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mbis Cloud Portal : Top-level 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4" descr="C:\Documents and Settings\Mark\My Documents\Keep\Nimbis_Services\Partner-Platforms\NCSA\Images\cobalt.jpg"/>
          <p:cNvPicPr/>
          <p:nvPr/>
        </p:nvPicPr>
        <p:blipFill>
          <a:blip r:embed="rId1"/>
          <a:stretch/>
        </p:blipFill>
        <p:spPr>
          <a:xfrm>
            <a:off x="1959120" y="4929120"/>
            <a:ext cx="760320" cy="91764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3"/>
          <p:cNvSpPr/>
          <p:nvPr/>
        </p:nvSpPr>
        <p:spPr>
          <a:xfrm>
            <a:off x="2347920" y="1757520"/>
            <a:ext cx="0" cy="231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65240" y="4071960"/>
            <a:ext cx="2563920" cy="517680"/>
          </a:xfrm>
          <a:prstGeom prst="rect">
            <a:avLst/>
          </a:prstGeom>
          <a:gradFill rotWithShape="0">
            <a:gsLst>
              <a:gs pos="0">
                <a:srgbClr val="97b8ff"/>
              </a:gs>
              <a:gs pos="100000">
                <a:srgbClr val="dfe8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ud Provid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ycles, Software, Consul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0560" y="3203640"/>
            <a:ext cx="2568600" cy="517320"/>
          </a:xfrm>
          <a:prstGeom prst="rect">
            <a:avLst/>
          </a:prstGeom>
          <a:gradFill rotWithShape="0">
            <a:gsLst>
              <a:gs pos="0">
                <a:srgbClr val="ff97b8"/>
              </a:gs>
              <a:gs pos="100000">
                <a:srgbClr val="ffdfe8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mb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ker Sub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65240" y="2455920"/>
            <a:ext cx="2563920" cy="51588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mb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mmerce Sub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065240" y="1239840"/>
            <a:ext cx="2563920" cy="517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ktop Only” Us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900000" y="2104920"/>
            <a:ext cx="2943360" cy="1793880"/>
          </a:xfrm>
          <a:prstGeom prst="rect">
            <a:avLst/>
          </a:prstGeom>
          <a:noFill/>
          <a:ln w="255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073160" y="1938240"/>
            <a:ext cx="2560680" cy="33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Nimbis Cloud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3" descr="C:\Documents and Settings\Mark\My Documents\Keep\Nimbis_Services\Partner-Platforms\Amazon\Images\PDS Migration to EC2.jpg"/>
          <p:cNvPicPr/>
          <p:nvPr/>
        </p:nvPicPr>
        <p:blipFill>
          <a:blip r:embed="rId2"/>
          <a:stretch/>
        </p:blipFill>
        <p:spPr>
          <a:xfrm>
            <a:off x="577800" y="4968720"/>
            <a:ext cx="1058760" cy="860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:\Documents and Settings\Mark\My Documents\Keep\Nimbis_Services\Partner-Platforms\OSC\Images\BALECluster.gif"/>
          <p:cNvPicPr/>
          <p:nvPr/>
        </p:nvPicPr>
        <p:blipFill>
          <a:blip r:embed="rId3"/>
          <a:stretch/>
        </p:blipFill>
        <p:spPr>
          <a:xfrm>
            <a:off x="3040200" y="4910040"/>
            <a:ext cx="857160" cy="10540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12"/>
          <p:cNvSpPr/>
          <p:nvPr/>
        </p:nvSpPr>
        <p:spPr>
          <a:xfrm flipH="1">
            <a:off x="1172880" y="4589640"/>
            <a:ext cx="1176120" cy="37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3"/>
          <p:cNvSpPr/>
          <p:nvPr/>
        </p:nvSpPr>
        <p:spPr>
          <a:xfrm flipH="1">
            <a:off x="2342880" y="4591080"/>
            <a:ext cx="4680" cy="33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48"/>
          <p:cNvSpPr/>
          <p:nvPr/>
        </p:nvSpPr>
        <p:spPr>
          <a:xfrm>
            <a:off x="2347200" y="4589640"/>
            <a:ext cx="1120680" cy="32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ight Arrow 15"/>
          <p:cNvSpPr/>
          <p:nvPr/>
        </p:nvSpPr>
        <p:spPr>
          <a:xfrm>
            <a:off x="3921120" y="2546280"/>
            <a:ext cx="534960" cy="349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4572000" y="1262160"/>
            <a:ext cx="3962520" cy="32716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7"/>
          <p:cNvSpPr/>
          <p:nvPr/>
        </p:nvSpPr>
        <p:spPr>
          <a:xfrm>
            <a:off x="4762440" y="4648320"/>
            <a:ext cx="354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ed with open sourc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upal Content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bercart Ecommerce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ilored for HPC on-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-through agre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licens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mbis Cloud Portal Home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41440" y="879480"/>
            <a:ext cx="806292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Rounded Rectangle 4"/>
          <p:cNvSpPr/>
          <p:nvPr/>
        </p:nvSpPr>
        <p:spPr>
          <a:xfrm>
            <a:off x="2344680" y="3352680"/>
            <a:ext cx="4608720" cy="234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ounded Rectangle 5"/>
          <p:cNvSpPr/>
          <p:nvPr/>
        </p:nvSpPr>
        <p:spPr>
          <a:xfrm>
            <a:off x="693720" y="1854360"/>
            <a:ext cx="1496880" cy="88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ounded Rectangle 6"/>
          <p:cNvSpPr/>
          <p:nvPr/>
        </p:nvSpPr>
        <p:spPr>
          <a:xfrm>
            <a:off x="693720" y="2776680"/>
            <a:ext cx="1496880" cy="1382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6"/>
          <p:cNvGrpSpPr/>
          <p:nvPr/>
        </p:nvGrpSpPr>
        <p:grpSpPr>
          <a:xfrm>
            <a:off x="1738080" y="3819600"/>
            <a:ext cx="1028520" cy="1030320"/>
            <a:chOff x="1738080" y="3819600"/>
            <a:chExt cx="1028520" cy="1030320"/>
          </a:xfrm>
        </p:grpSpPr>
        <p:pic>
          <p:nvPicPr>
            <p:cNvPr id="130" name="Picture 13" descr="C:\Documents and Settings\Mark\Local Settings\Temporary Internet Files\Content.IE5\O1R69AFX\MCj04242460000[1].wmf"/>
            <p:cNvPicPr/>
            <p:nvPr/>
          </p:nvPicPr>
          <p:blipFill>
            <a:blip r:embed="rId2"/>
            <a:stretch/>
          </p:blipFill>
          <p:spPr>
            <a:xfrm flipH="1">
              <a:off x="1738080" y="3819600"/>
              <a:ext cx="1028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15"/>
            <p:cNvSpPr/>
            <p:nvPr/>
          </p:nvSpPr>
          <p:spPr>
            <a:xfrm>
              <a:off x="2088360" y="4048560"/>
              <a:ext cx="5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Foc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8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oud Services for Mathemat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Reg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774000" y="863640"/>
            <a:ext cx="728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 to www.nimbisservice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ck on “Register for ou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ud Services for Mathem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Beta 2”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and submit the registration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846000" y="2481120"/>
            <a:ext cx="3838680" cy="24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5186520" y="2481120"/>
            <a:ext cx="3362040" cy="34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Oval 6"/>
          <p:cNvSpPr/>
          <p:nvPr/>
        </p:nvSpPr>
        <p:spPr>
          <a:xfrm>
            <a:off x="1268280" y="1854360"/>
            <a:ext cx="308160" cy="30780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Straight Arrow Connector 8"/>
          <p:cNvCxnSpPr/>
          <p:nvPr/>
        </p:nvCxnSpPr>
        <p:spPr>
          <a:xfrm flipH="1">
            <a:off x="1421640" y="2161800"/>
            <a:ext cx="2520" cy="26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Oval 10"/>
          <p:cNvSpPr/>
          <p:nvPr/>
        </p:nvSpPr>
        <p:spPr>
          <a:xfrm>
            <a:off x="1192320" y="3851280"/>
            <a:ext cx="307800" cy="30780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Straight Arrow Connector 11"/>
          <p:cNvCxnSpPr/>
          <p:nvPr/>
        </p:nvCxnSpPr>
        <p:spPr>
          <a:xfrm>
            <a:off x="1499760" y="4005000"/>
            <a:ext cx="30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Oval 13"/>
          <p:cNvSpPr/>
          <p:nvPr/>
        </p:nvSpPr>
        <p:spPr>
          <a:xfrm>
            <a:off x="5416560" y="1854360"/>
            <a:ext cx="307800" cy="30780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Straight Arrow Connector 14"/>
          <p:cNvCxnSpPr/>
          <p:nvPr/>
        </p:nvCxnSpPr>
        <p:spPr>
          <a:xfrm flipH="1">
            <a:off x="5569920" y="2161800"/>
            <a:ext cx="1080" cy="26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Box 17"/>
          <p:cNvSpPr/>
          <p:nvPr/>
        </p:nvSpPr>
        <p:spPr>
          <a:xfrm>
            <a:off x="408960" y="5126040"/>
            <a:ext cx="47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no cost or commitment to regis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n to Your Portal Accou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346040" y="3927600"/>
            <a:ext cx="122904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TextBox 17"/>
          <p:cNvSpPr/>
          <p:nvPr/>
        </p:nvSpPr>
        <p:spPr>
          <a:xfrm>
            <a:off x="837720" y="863640"/>
            <a:ext cx="731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’ll review your registration request and respond within 24 hou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’ll receive your login credentials (Username, Password) by ema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in. Your credentials give you access to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themat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ortal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home page will provide further instructions on the use of th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http://www.iconarchive.com/icons/judge/iphone/128/clock-icon.png"/>
          <p:cNvPicPr/>
          <p:nvPr/>
        </p:nvPicPr>
        <p:blipFill>
          <a:blip r:embed="rId2"/>
          <a:stretch/>
        </p:blipFill>
        <p:spPr>
          <a:xfrm>
            <a:off x="1384200" y="236520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rossturk.com/files/1612/5217/7014/email_icon.png"/>
          <p:cNvPicPr/>
          <p:nvPr/>
        </p:nvPicPr>
        <p:blipFill>
          <a:blip r:embed="rId3"/>
          <a:stretch/>
        </p:blipFill>
        <p:spPr>
          <a:xfrm>
            <a:off x="1384200" y="3133800"/>
            <a:ext cx="614520" cy="614160"/>
          </a:xfrm>
          <a:prstGeom prst="rect">
            <a:avLst/>
          </a:prstGeom>
          <a:ln w="0">
            <a:noFill/>
          </a:ln>
        </p:spPr>
      </p:pic>
      <p:sp>
        <p:nvSpPr>
          <p:cNvPr id="149" name="Oval 7"/>
          <p:cNvSpPr/>
          <p:nvPr/>
        </p:nvSpPr>
        <p:spPr>
          <a:xfrm>
            <a:off x="2921040" y="2008080"/>
            <a:ext cx="306360" cy="3063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Straight Arrow Connector 8"/>
          <p:cNvCxnSpPr/>
          <p:nvPr/>
        </p:nvCxnSpPr>
        <p:spPr>
          <a:xfrm flipH="1">
            <a:off x="3074400" y="2314440"/>
            <a:ext cx="1080" cy="269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Oval 9"/>
          <p:cNvSpPr/>
          <p:nvPr/>
        </p:nvSpPr>
        <p:spPr>
          <a:xfrm>
            <a:off x="731880" y="2519280"/>
            <a:ext cx="306360" cy="3063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Straight Arrow Connector 10"/>
          <p:cNvCxnSpPr/>
          <p:nvPr/>
        </p:nvCxnSpPr>
        <p:spPr>
          <a:xfrm>
            <a:off x="1039320" y="2673000"/>
            <a:ext cx="30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Oval 11"/>
          <p:cNvSpPr/>
          <p:nvPr/>
        </p:nvSpPr>
        <p:spPr>
          <a:xfrm>
            <a:off x="731880" y="3287880"/>
            <a:ext cx="306360" cy="3063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Straight Arrow Connector 12"/>
          <p:cNvCxnSpPr/>
          <p:nvPr/>
        </p:nvCxnSpPr>
        <p:spPr>
          <a:xfrm>
            <a:off x="1039320" y="3441240"/>
            <a:ext cx="30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Oval 13"/>
          <p:cNvSpPr/>
          <p:nvPr/>
        </p:nvSpPr>
        <p:spPr>
          <a:xfrm>
            <a:off x="731880" y="3967200"/>
            <a:ext cx="306360" cy="3063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Straight Arrow Connector 14"/>
          <p:cNvCxnSpPr/>
          <p:nvPr/>
        </p:nvCxnSpPr>
        <p:spPr>
          <a:xfrm>
            <a:off x="1039320" y="4119120"/>
            <a:ext cx="30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2727360" y="2622600"/>
            <a:ext cx="5746680" cy="29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A. Gray</dc:creator>
  <dc:description/>
  <dc:language>en-US</dc:language>
  <cp:lastModifiedBy> Mark Gray</cp:lastModifiedBy>
  <dcterms:modified xsi:type="dcterms:W3CDTF">2010-10-13T17:46:37Z</dcterms:modified>
  <cp:revision>776</cp:revision>
  <dc:subject/>
  <dc:title>Slide Template</dc:title>
</cp:coreProperties>
</file>