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572F-AE3F-4AA9-B0F9-CB0E1456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E8CE-CB0A-4EA0-B933-86D0B053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8985-0E53-4658-BC77-DA101CED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6EB6-8648-4BDC-A003-6619339A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3D92-F4CC-48E6-A60F-111BD406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3871-4F9D-4E95-A66D-EF0586C9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F273-16FD-47DE-AE68-033DB8FF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0A92-F80D-4C7C-8401-321B78E1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11E-B8E3-41CD-A817-0B749F5E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19E-82EA-477B-B842-2C9DE333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8614-8013-4107-BC29-922BC390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BBC1-E7AB-4FAF-9532-679F6DCF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7615-5BE3-44DE-B668-E18F67EA4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6248160" cy="85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6248160" cy="8534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304920"/>
            <a:ext cx="6248160" cy="85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1000" y="476280"/>
            <a:ext cx="6156000" cy="81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51000" y="476280"/>
            <a:ext cx="6156000" cy="8190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51000" y="476280"/>
            <a:ext cx="6156000" cy="81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92040" y="285840"/>
            <a:ext cx="6073920" cy="85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2040" y="285840"/>
            <a:ext cx="6073920" cy="8572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2040" y="285840"/>
            <a:ext cx="6073920" cy="85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4120" y="312840"/>
            <a:ext cx="6087960" cy="85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4120" y="312840"/>
            <a:ext cx="6087960" cy="8518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4120" y="312840"/>
            <a:ext cx="6087960" cy="85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7240" y="228600"/>
            <a:ext cx="6743520" cy="86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7240" y="228600"/>
            <a:ext cx="6743520" cy="8686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7240" y="228600"/>
            <a:ext cx="6743520" cy="86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3080" y="285840"/>
            <a:ext cx="6286320" cy="85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3080" y="285840"/>
            <a:ext cx="6286320" cy="8591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3080" y="285840"/>
            <a:ext cx="6286320" cy="85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41440" y="228600"/>
            <a:ext cx="6068880" cy="85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41440" y="228600"/>
            <a:ext cx="6068880" cy="8591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41440" y="228600"/>
            <a:ext cx="6068880" cy="85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3080" y="285840"/>
            <a:ext cx="6267240" cy="85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3080" y="285840"/>
            <a:ext cx="6267240" cy="8591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43080" y="285840"/>
            <a:ext cx="6267240" cy="85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1200" y="343080"/>
            <a:ext cx="6375600" cy="85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1200" y="343080"/>
            <a:ext cx="6375600" cy="8515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41200" y="343080"/>
            <a:ext cx="6375600" cy="85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5600" y="304920"/>
            <a:ext cx="6346800" cy="86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5600" y="304920"/>
            <a:ext cx="6346800" cy="8610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5600" y="304920"/>
            <a:ext cx="6346800" cy="86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7160" y="266760"/>
            <a:ext cx="6402240" cy="86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7160" y="266760"/>
            <a:ext cx="6402240" cy="86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7160" y="266760"/>
            <a:ext cx="6402240" cy="8629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7160" y="266760"/>
            <a:ext cx="6402240" cy="86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304920"/>
            <a:ext cx="6324480" cy="85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6324480" cy="8591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920" y="304920"/>
            <a:ext cx="6324480" cy="85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47680" y="266760"/>
            <a:ext cx="6381720" cy="86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7680" y="266760"/>
            <a:ext cx="6381720" cy="8610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47680" y="266760"/>
            <a:ext cx="6381720" cy="86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9:04:16Z</dcterms:created>
  <dc:creator>jfarrell</dc:creator>
  <dc:description/>
  <dc:language>en-US</dc:language>
  <cp:lastModifiedBy>jfarrell</cp:lastModifiedBy>
  <dcterms:modified xsi:type="dcterms:W3CDTF">1998-06-11T19:50:19Z</dcterms:modified>
  <cp:revision>4</cp:revision>
  <dc:subject/>
  <dc:title>No Slide Title</dc:title>
</cp:coreProperties>
</file>